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02D1-BC5A-4945-A156-13B800823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0E21-F765-4E2A-9C66-1BDC135B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41DF-01D0-43B1-926F-E683ECE83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8A16-8FF6-4390-A7C9-DF540EAB7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171F-78D3-4D02-AE46-A2CA7827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596C-01CF-4A8C-9F26-D7A22EC9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DA43-F076-477F-A0F6-F0FC3888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80D7-290A-45F8-AAD7-6C6BDF30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FA69-7F93-4CCB-8236-D05638A1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845D-1D2B-4832-9A21-1B1815BD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A856-C9D1-4B69-B645-5B26AC35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0617-9DEB-45D4-8F16-D9094795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441C-C713-4F09-8A8B-04F6F3588C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zdorobr.org/" TargetMode="External"/><Relationship Id="rId2" Type="http://schemas.openxmlformats.org/officeDocument/2006/relationships/hyperlink" Target="mailto:zdorovie.2014@yandex.ru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ro.perm.ru/" TargetMode="External"/><Relationship Id="rId2" Type="http://schemas.openxmlformats.org/officeDocument/2006/relationships/hyperlink" Target="http://iro.perm.ru/" TargetMode="External"/><Relationship Id="rId3" Type="http://schemas.openxmlformats.org/officeDocument/2006/relationships/hyperlink" Target="http://iro.perm.ru/" TargetMode="External"/><Relationship Id="rId4" Type="http://schemas.openxmlformats.org/officeDocument/2006/relationships/hyperlink" Target="http://www.iro.perm.ru/uchitel_zdorovia_rossii_2015.html" TargetMode="External"/><Relationship Id="rId5" Type="http://schemas.openxmlformats.org/officeDocument/2006/relationships/hyperlink" Target="http://iro.perm.ru/catalog.html?cid=9" TargetMode="External"/><Relationship Id="rId6" Type="http://schemas.openxmlformats.org/officeDocument/2006/relationships/hyperlink" Target="http://iro.perm.ru/catalog.html?cid=9" TargetMode="External"/><Relationship Id="rId7" Type="http://schemas.openxmlformats.org/officeDocument/2006/relationships/hyperlink" Target="http://iro.perm.ru/catalog.html?cid=9" TargetMode="External"/><Relationship Id="rId8" Type="http://schemas.openxmlformats.org/officeDocument/2006/relationships/hyperlink" Target="http://iro.perm.ru/catalog.html?cid=9" TargetMode="External"/><Relationship Id="rId9" Type="http://schemas.openxmlformats.org/officeDocument/2006/relationships/hyperlink" Target="mailto:ozdip@list.ru" TargetMode="External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ozdip@list.ru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60720" y="620640"/>
            <a:ext cx="6875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Краевой этап </a:t>
            </a:r>
            <a:br>
              <a:rPr sz="3600"/>
            </a:b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X </a:t>
            </a: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Всероссийского конкурса </a:t>
            </a:r>
            <a:br>
              <a:rPr sz="3600"/>
            </a:b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«Учитель здоровья России - 2019»: условия участия, требования, критери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47560" y="445752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339933"/>
                </a:solidFill>
                <a:latin typeface="Calibri"/>
              </a:rPr>
              <a:t>Лядова Наталья Владимировна</a:t>
            </a:r>
            <a:r>
              <a:rPr b="1" lang="ru-RU" sz="2400" spc="-1" strike="noStrike">
                <a:solidFill>
                  <a:srgbClr val="339933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33"/>
                </a:solidFill>
                <a:latin typeface="Calibri"/>
              </a:rPr>
              <a:t>ответственная за проведение краевого конкурс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9933"/>
                </a:solidFill>
                <a:latin typeface="Calibri"/>
              </a:rPr>
              <a:t>ведущий научный сотрудник отдела сопровождения ФГОС ИРО ПК, кандидат медицинских наук, доцен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6480" y="285840"/>
            <a:ext cx="2155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Поощрение победителя и лауреатов Конк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1073160"/>
            <a:ext cx="91440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едитель, призеры и лауреаты Конкурса поощряются денежными вознаграждени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 участники 1-го заочного тура Конкурса награждаются дипломам участников, победитель, призеры и лауреаты (участники 2 тура) – диплом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едитель Конкурса будет направлен для очного участия во всероссийском (финальном) этапе X Всероссийского конкурса «Учитель здоровья России – 2019», который будет проводиться 27-29 ноября 2019 года в городе Челябинс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ем документов победител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1 ноября. Сайт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zdorobr.or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дрес Оргкомитета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zdorovie.2014@yandex.r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3"/>
          <a:stretch/>
        </p:blipFill>
        <p:spPr>
          <a:xfrm>
            <a:off x="8028000" y="0"/>
            <a:ext cx="12445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спехов участникам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3276720" y="2781360"/>
            <a:ext cx="2155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Поиск информации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о конкурсе на сайте ИРО П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1483920"/>
            <a:ext cx="9036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АУ ДПО «Институт развития образования Пермского края»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ro.perm.ru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ероприятия/«Учитель здоровья России»/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iro.perm.ru/uchitel_zdorovia_rossii_2015.htm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дел сопровождения ФГОС ИРО ПК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://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iro.perm.ru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/catalog.html?cid=9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л. 8(342)212 21 9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ядов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Наталья Владимировна,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ozdip@list.r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8 922 64 79 30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logo2"/>
          <p:cNvPicPr/>
          <p:nvPr/>
        </p:nvPicPr>
        <p:blipFill>
          <a:blip r:embed="rId10"/>
          <a:stretch/>
        </p:blipFill>
        <p:spPr>
          <a:xfrm>
            <a:off x="539640" y="333360"/>
            <a:ext cx="1828800" cy="1125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11"/>
          <a:stretch/>
        </p:blipFill>
        <p:spPr>
          <a:xfrm>
            <a:off x="7667640" y="189000"/>
            <a:ext cx="12445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К участию в Конкурсе</a:t>
            </a:r>
            <a:br>
              <a:rPr sz="3600"/>
            </a:b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приглашаютс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9280" y="1600200"/>
            <a:ext cx="89647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чителя и педагоги общеобразовательных организаци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едагоги дополнительного образовани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еподаватели среднего профессионального образования Пермского кр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Цели Конкурс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вление лучших учителей, осуществляющих обучение на уроках, занятиях на основе использования современных здоровьесберегающих образовательных технологий, и определение кандидата для участия в финальном этапе X Всероссийского конкурса «Учитель здоровья России – 2019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адачи Конкурс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туализация проблемы формирования культуры здоровья в системе образ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вление инновационных подходов педагогов к формированию культуры здорового и безопасного образа жизни у обучающихся, воспитанников, использования педагогами здоровьесберегающих образовательных технологий, методик в процессе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Туры конкурса и конкурсные мероприя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1-й – заочный ту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нкурсное мероприятие: «Технологическая карта или Конспект урока или занятия»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2-й – очный ту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Конкурсные мероприятия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Фрагмент урока или внеклассного занятия с деть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Самоанализ мероприят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Творческая презентация педагогического опыта «Я – учитель здоровья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Сроки прове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уры Конкурс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1-й – заочный – с 20 мая по 9 сентября 2019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Место проведения - ГАУ ДПО «ИРО ПК»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2) 2-й – очный – 25-26 сентября 2019 г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Место его проведения будет размещено на сайте ГАУ ДПО «ИРО ПК» http://iro.perm.ru/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фициальной эмблемо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нкурса </a:t>
            </a: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является развернута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книга с дубовым лист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Использование официальной эмблемы Конкурса обязательно на краевом этапе X Всероссийского конкур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5840" y="274680"/>
            <a:ext cx="85806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Условия участия. </a:t>
            </a:r>
            <a:br>
              <a:rPr sz="3200"/>
            </a:b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Перечень направляемых материа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06200" y="1248840"/>
            <a:ext cx="8885520" cy="53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явление участника Конкурса по образцу (Приложение 1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явка на урок или  внеклассное занятие (Приложение 2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дставление заявителя (скан) о Конкурсанте (официальное письмо органа управления образованием муниципального района, городского округа с подписью начальника и печатью) (Приложение 3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формационная карта участника Конкурс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в формате Wor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 скан)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Приложение 4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хнологическая карта (план-конспект урока) или внеклассного занятия в электронном виде (Приложение 5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 формате Word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(Приложение 5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ветная фотография участника (портрет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астники в срок до 9 сентября 2019 года включительно направляют комплект конкурсных документов в Оргкомитет Лядовой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Наталье Владимировне по электронной почте на адрес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ozdip@list.ru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7967520" y="0"/>
            <a:ext cx="117648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Критерии оценки конкурсных материалов </a:t>
            </a:r>
            <a:br>
              <a:rPr sz="2800"/>
            </a:b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заочного тура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заочном туре жюри оценивают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хнологическую карту/Конспект урока или занят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79280" y="1746360"/>
          <a:ext cx="8785440" cy="5111640"/>
        </p:xfrm>
        <a:graphic>
          <a:graphicData uri="http://schemas.openxmlformats.org/drawingml/2006/table">
            <a:tbl>
              <a:tblPr/>
              <a:tblGrid>
                <a:gridCol w="360360"/>
                <a:gridCol w="6337440"/>
                <a:gridCol w="20876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оце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им. количество баллов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дактическое оформление технологической карты/плана-конспек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соответствует теме, включает воспитательный компонент по формированию культуры ЗОЖ, здоровьесберегающие технолог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игинальность используемых приемов, форм достижения и оценивания результато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ованная литера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8034480" y="189000"/>
            <a:ext cx="11095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Очный ту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074600"/>
            <a:ext cx="853452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 2-й очный тур выходят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вять участнико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набравших в 1-м туре наибольшее количество баллов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339933"/>
                </a:solidFill>
                <a:latin typeface="Calibri"/>
              </a:rPr>
              <a:t>Конкурсные мероприятия очного тур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рагмент урока или внеклассного занятия с детьми – регламент 25 мину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анализ мероприятия – регламент 5 мин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ворческая презентация педагогического опыта участника Конкурса «Я – учитель здоровья» – регламент 7 ми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3T09:47:00Z</dcterms:created>
  <dc:creator>Ljadova-NV</dc:creator>
  <dc:description/>
  <dc:language>en-US</dc:language>
  <cp:lastModifiedBy>Ljadova-NV</cp:lastModifiedBy>
  <dcterms:modified xsi:type="dcterms:W3CDTF">2019-05-14T09:24:35Z</dcterms:modified>
  <cp:revision>12</cp:revision>
  <dc:subject/>
  <dc:title>Краевой этап  II Всероссийского конкурса  «Школа – территория здоровья - 2018»: условия участия, требования, критерии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635</vt:lpwstr>
  </property>
  <property fmtid="{D5CDD505-2E9C-101B-9397-08002B2CF9AE}" pid="3" name="Version">
    <vt:r8>4</vt:r8>
  </property>
</Properties>
</file>